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AF0-82F1-466C-9511-52376D8D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C50-49BB-4048-B1BF-95477C9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5A8-009B-4D38-A725-14C0E714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D14B-E3F9-4585-9864-86BA406F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69A8-FD64-4EFF-B7B0-445E1155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F211-D8BE-4084-9C34-B20760BA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1701-6523-4E0A-BCC1-485C4EAA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8BF0-496C-4889-9501-694A147D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1BC6-0C57-4B6B-898A-87E43073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0C5A-28E6-4FDB-A62D-7B3BB8C7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4E81-A8D6-4711-9475-8870B69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BA8-7231-4533-A3A0-D90E2681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A960-F871-4494-AC63-24884A38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A649-CDBB-44D3-81E7-F5CCF64F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61E1-1244-4EBE-B591-600766A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ABC4-D5F8-4923-A6E5-23C7BF12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2424-EC65-4C7A-8ECF-AA82D94A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7CD-42F5-4C84-9720-563FD4D7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5571-DED7-4F69-AF63-C9F5DC9A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29B-4CA3-48B0-9094-ECE5E315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50E-BD91-4B97-BAE1-13E9F3B2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9AD-FF95-4E70-9CDC-D54AB286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E3A-41BB-4C7E-815F-7A1A5338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721-33CA-43EF-9866-7D4B7307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828-DBD4-44E6-8151-5488BD296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CF36-20C0-4576-99B3-040C7B405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ug of War</a:t>
            </a:r>
            <a:br>
              <a:rPr sz="4100"/>
            </a:br>
            <a:r>
              <a:rPr b="0" i="1" lang="en-US" sz="1600" spc="-1" strike="noStrike">
                <a:solidFill>
                  <a:srgbClr val="336666"/>
                </a:solidFill>
                <a:latin typeface="Arial Black"/>
              </a:rPr>
              <a:t>A real-time strategy with first person action.</a:t>
            </a:r>
            <a:endParaRPr b="0" i="1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y: Earl Lamson II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put – Next spiral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subscription to individual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for subscription grou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for switching input mode between different subscriptio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05200" y="1905120"/>
            <a:ext cx="3733560" cy="4037760"/>
            <a:chOff x="4705200" y="1905120"/>
            <a:chExt cx="3733560" cy="4037760"/>
          </a:xfrm>
        </p:grpSpPr>
        <p:cxnSp>
          <p:nvCxnSpPr>
            <p:cNvPr id="129" name="_s150563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972840" y="402696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50557"/>
            <p:cNvCxnSpPr>
              <a:stCxn id="133" idx="0"/>
              <a:endCxn id="131" idx="2"/>
            </p:cNvCxnSpPr>
            <p:nvPr/>
          </p:nvCxnSpPr>
          <p:spPr>
            <a:xfrm flipV="1">
              <a:off x="6572160" y="442836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50555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5666400" y="4028040"/>
              <a:ext cx="505440" cy="130608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50553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6972840" y="251280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50552"/>
            <p:cNvCxnSpPr>
              <a:stCxn id="131" idx="0"/>
              <a:endCxn id="138" idx="2"/>
            </p:cNvCxnSpPr>
            <p:nvPr/>
          </p:nvCxnSpPr>
          <p:spPr>
            <a:xfrm flipV="1">
              <a:off x="6572160" y="291420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50551"/>
            <p:cNvCxnSpPr>
              <a:stCxn id="141" idx="0"/>
              <a:endCxn id="138" idx="2"/>
            </p:cNvCxnSpPr>
            <p:nvPr/>
          </p:nvCxnSpPr>
          <p:spPr>
            <a:xfrm flipH="1" flipV="1" rot="5400000">
              <a:off x="5665680" y="251316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150547"/>
            <p:cNvSpPr/>
            <p:nvPr/>
          </p:nvSpPr>
          <p:spPr>
            <a:xfrm>
              <a:off x="6012000" y="190512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50548"/>
            <p:cNvSpPr/>
            <p:nvPr/>
          </p:nvSpPr>
          <p:spPr>
            <a:xfrm>
              <a:off x="47052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TS M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50549"/>
            <p:cNvSpPr/>
            <p:nvPr/>
          </p:nvSpPr>
          <p:spPr>
            <a:xfrm>
              <a:off x="60120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URRENT MOD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50550"/>
            <p:cNvSpPr/>
            <p:nvPr/>
          </p:nvSpPr>
          <p:spPr>
            <a:xfrm>
              <a:off x="73188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U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50554"/>
            <p:cNvSpPr/>
            <p:nvPr/>
          </p:nvSpPr>
          <p:spPr>
            <a:xfrm>
              <a:off x="4706640" y="4933440"/>
              <a:ext cx="111852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50556"/>
            <p:cNvSpPr/>
            <p:nvPr/>
          </p:nvSpPr>
          <p:spPr>
            <a:xfrm>
              <a:off x="6012000" y="4933440"/>
              <a:ext cx="111888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0562"/>
            <p:cNvSpPr/>
            <p:nvPr/>
          </p:nvSpPr>
          <p:spPr>
            <a:xfrm>
              <a:off x="7317720" y="493344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hysics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destruction of bodies (dyna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of body parameters (shape, mass, position, velocity, force accumul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ping of the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destruction of geometries, spaces (for manual coldet, used for 3d G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collisions between geometries, and spaces of geome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 fire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of the integratio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of the geometry/space compar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hysics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more parameterization to the bod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more shapes, including support for mesh based collision dete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patial partitioning to speed collision de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 way to merge the graphics meshes with the collision detection system allowing Direct3DX mesh optimization to be used for collision detection on simplified mes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ipting - Currentl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scripting suppo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id manage to get Lua wor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glue code wasn’t very clear but it work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 I realized, I don’t know Lua, and without having the other interfaces mostly realized, its not easy to glue them to Lu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emed this spiral as the wrong time for script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ipting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too much change in the interfa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too early, I need to learn Lua if I’m to use 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’ll likely hold off on scripting until I get to the stage of defining entity behavio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w Subsystem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 Manag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 Based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riven desig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definition of objects as compositions of components and their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e design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cene grap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component based ob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nvironment Cha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log, didn’t work, cause I didn’t do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much dramatic changes to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dom were there clear milestones for rel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that useful unless I had a customer to which I wished to increase project visi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source contr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ce I got part way through a refactor before I saw the gaping hole in my design… no way to roll back my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gonomics are important to productiv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need a better desk, and to not develop on a lapt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’ve failed to produce a grandiose game in a single semes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have produced some rough prototype subsystems of a game engine that could be used to implement my grandiose ga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ssons learn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++ is not a RAD langu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control is not just for team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S.NET 2005 doesn’t have good C++ intelli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y rely too much on code insight and aut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ap of Gam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person shooter and real-time strateg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ous units and building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resource and development system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ll a goal object to your go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ot pulling projectil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ap of Architectu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 Sub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 = Direct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= F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= 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s = 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ipting = L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velopment Progres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ral Development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an by defin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an archite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nt with emergent design while examining library fea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ed to implement my designs with limited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refacto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and/or redefin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solution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raphics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ng of unloading of meshes via .X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hard coded meshes: Sphere, Cube and 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, change and destroy l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, change and destroy came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der a mesh using a ca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a colored filled rectangle (2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a st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raphics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ene Gra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versal would support minimizing DirectX renderer stat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incorporate DirectX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d not to use the DirectX sample GUI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95680" y="1905120"/>
            <a:ext cx="3962160" cy="4038120"/>
            <a:chOff x="4495680" y="1905120"/>
            <a:chExt cx="3962160" cy="4038120"/>
          </a:xfrm>
        </p:grpSpPr>
        <p:cxnSp>
          <p:nvCxnSpPr>
            <p:cNvPr id="101" name="_s145435"/>
            <p:cNvCxnSpPr>
              <a:stCxn id="102" idx="1"/>
              <a:endCxn id="103" idx="2"/>
            </p:cNvCxnSpPr>
            <p:nvPr/>
          </p:nvCxnSpPr>
          <p:spPr>
            <a:xfrm rot="10800000">
              <a:off x="6476760" y="5230080"/>
              <a:ext cx="17964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5433"/>
            <p:cNvCxnSpPr>
              <a:stCxn id="103" idx="1"/>
              <a:endCxn id="105" idx="2"/>
            </p:cNvCxnSpPr>
            <p:nvPr/>
          </p:nvCxnSpPr>
          <p:spPr>
            <a:xfrm rot="10800000">
              <a:off x="5756040" y="4517280"/>
              <a:ext cx="17964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45431"/>
            <p:cNvCxnSpPr>
              <a:stCxn id="105" idx="1"/>
              <a:endCxn id="107" idx="2"/>
            </p:cNvCxnSpPr>
            <p:nvPr/>
          </p:nvCxnSpPr>
          <p:spPr>
            <a:xfrm rot="10800000">
              <a:off x="5035320" y="3804840"/>
              <a:ext cx="18072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45429"/>
            <p:cNvCxnSpPr>
              <a:stCxn id="109" idx="1"/>
              <a:endCxn id="110" idx="2"/>
            </p:cNvCxnSpPr>
            <p:nvPr/>
          </p:nvCxnSpPr>
          <p:spPr>
            <a:xfrm rot="10800000">
              <a:off x="7196040" y="3804840"/>
              <a:ext cx="180720" cy="119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45427"/>
            <p:cNvCxnSpPr>
              <a:stCxn id="112" idx="1"/>
              <a:endCxn id="110" idx="2"/>
            </p:cNvCxnSpPr>
            <p:nvPr/>
          </p:nvCxnSpPr>
          <p:spPr>
            <a:xfrm rot="10800000">
              <a:off x="7196040" y="3804840"/>
              <a:ext cx="18072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45425"/>
            <p:cNvCxnSpPr>
              <a:stCxn id="110" idx="0"/>
              <a:endCxn id="114" idx="2"/>
            </p:cNvCxnSpPr>
            <p:nvPr/>
          </p:nvCxnSpPr>
          <p:spPr>
            <a:xfrm flipV="1">
              <a:off x="7196400" y="3092040"/>
              <a:ext cx="1800" cy="23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45423"/>
            <p:cNvCxnSpPr>
              <a:stCxn id="107" idx="0"/>
              <a:endCxn id="116" idx="2"/>
            </p:cNvCxnSpPr>
            <p:nvPr/>
          </p:nvCxnSpPr>
          <p:spPr>
            <a:xfrm flipV="1">
              <a:off x="5035680" y="3092040"/>
              <a:ext cx="1800" cy="23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45419"/>
            <p:cNvCxnSpPr>
              <a:stCxn id="114" idx="0"/>
              <a:endCxn id="118" idx="2"/>
            </p:cNvCxnSpPr>
            <p:nvPr/>
          </p:nvCxnSpPr>
          <p:spPr>
            <a:xfrm flipV="1" rot="16200000">
              <a:off x="6537240" y="1957320"/>
              <a:ext cx="237960" cy="1081440"/>
            </a:xfrm>
            <a:prstGeom prst="bentConnector3">
              <a:avLst>
                <a:gd name="adj1" fmla="val 47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45418"/>
            <p:cNvCxnSpPr>
              <a:stCxn id="116" idx="0"/>
              <a:endCxn id="118" idx="2"/>
            </p:cNvCxnSpPr>
            <p:nvPr/>
          </p:nvCxnSpPr>
          <p:spPr>
            <a:xfrm flipH="1" flipV="1" rot="5400000">
              <a:off x="5456880" y="1958040"/>
              <a:ext cx="237960" cy="1080360"/>
            </a:xfrm>
            <a:prstGeom prst="bentConnector3">
              <a:avLst>
                <a:gd name="adj1" fmla="val 47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45414"/>
            <p:cNvSpPr/>
            <p:nvPr/>
          </p:nvSpPr>
          <p:spPr>
            <a:xfrm>
              <a:off x="5575320" y="190512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ot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5415"/>
            <p:cNvSpPr/>
            <p:nvPr/>
          </p:nvSpPr>
          <p:spPr>
            <a:xfrm>
              <a:off x="4495680" y="26175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mera N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Worl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5416"/>
            <p:cNvSpPr/>
            <p:nvPr/>
          </p:nvSpPr>
          <p:spPr>
            <a:xfrm>
              <a:off x="6656400" y="26175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mera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GUI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45422"/>
            <p:cNvSpPr/>
            <p:nvPr/>
          </p:nvSpPr>
          <p:spPr>
            <a:xfrm>
              <a:off x="4495680" y="33303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llin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ustum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45424"/>
            <p:cNvSpPr/>
            <p:nvPr/>
          </p:nvSpPr>
          <p:spPr>
            <a:xfrm>
              <a:off x="6656400" y="33303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alo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ontrol Container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45426"/>
            <p:cNvSpPr/>
            <p:nvPr/>
          </p:nvSpPr>
          <p:spPr>
            <a:xfrm>
              <a:off x="7377120" y="40428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N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orderAre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5428"/>
            <p:cNvSpPr/>
            <p:nvPr/>
          </p:nvSpPr>
          <p:spPr>
            <a:xfrm>
              <a:off x="7377120" y="4755600"/>
              <a:ext cx="107928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ab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45430"/>
            <p:cNvSpPr/>
            <p:nvPr/>
          </p:nvSpPr>
          <p:spPr>
            <a:xfrm>
              <a:off x="5216040" y="4042800"/>
              <a:ext cx="107964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ght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45432"/>
            <p:cNvSpPr/>
            <p:nvPr/>
          </p:nvSpPr>
          <p:spPr>
            <a:xfrm>
              <a:off x="5935680" y="47556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llin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ight Bound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45434"/>
            <p:cNvSpPr/>
            <p:nvPr/>
          </p:nvSpPr>
          <p:spPr>
            <a:xfrm>
              <a:off x="6656400" y="54684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sh Nod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dio - Currentl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 soun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and stop sound sources (looping only) and give them 3d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listener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master volu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dio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ying of streaming sounds (music) with cueing ev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y a non-3d sound once, fire and forg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sound sources velocity to support Doppler effec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put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cribe to all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quire devices – exclusive access, traps mouse cursor, can poll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quire devices – releases mouse cursor, can’t poll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l data – interface fires events for any change in input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3:43:51Z</dcterms:created>
  <dc:creator>Earl Lamson III</dc:creator>
  <dc:description/>
  <dc:language>en-US</dc:language>
  <cp:lastModifiedBy>Earl Lamson III</cp:lastModifiedBy>
  <dcterms:modified xsi:type="dcterms:W3CDTF">2006-04-20T08:20:05Z</dcterms:modified>
  <cp:revision>4</cp:revision>
  <dc:subject/>
  <dc:title>Tug of War</dc:title>
</cp:coreProperties>
</file>